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794C-A385-43E8-9DC8-A0985FCBF6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0B7C-71A0-42FE-9EC4-9279AE6F5F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0B56-ECFF-4261-8BDF-8ACDD947FF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программ мы можем использовать не только несколько условий для задания ветвлений, но и несколько раз использовать саму конструкцию ветвления, вкладывая их одну в другую, создавая сложные усло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о возникает необходимость проверить условие, и в зависимости от результата проверки выполнить ту или иную серию операторов. В  Паскале эта серия операторов объединяется в один составной оператор, который заключается в операторные скоб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AB97-0248-4B43-B454-0593C2976B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. Составить программ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X,Y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X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2 THEN Y: = X 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3 THEN Y: = 2 ELSE  Y: = -X + 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 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A144-768F-4825-B4B3-564939B379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2. Найти корни квадратного уравн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A, B, C, D, X1, X2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A, B, C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= SQR(B) – 4 * A* C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D&lt;0 THEN WRITELN (‘NET CORNEY’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1:= (-B + SQRT (D)/ (2 * A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2:= (-B - SQRT (D)/ (2 * A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X1=’,X1,’’:2,’X2=’,X2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EBF1-2BFC-4B8D-B08D-3AF5936F91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X,Y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X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=0  THEN Y: = SQR(X) 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gt;1 THEN Y: = 2*X+4 ELSE  Y: = SQRT(SIN(X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 , Y:1:1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4B1C-0CD0-4B36-9A6B-248B156E3D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X,Y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(X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lt;=3 THEN Y: =12+COS(5*X) 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gt;5 THEN Y: = X+5 ELSE  Y: = (5*X+7)/(3*X-4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 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2223-FC80-4CF5-9EF3-2018876490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 79-83 повтор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програм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F4E8-1EDC-4C10-96CB-CEC893E2FE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F4D-1E24-4C08-8138-0218F1FD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70D-128B-4D59-A519-F64CAE4E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AB76-7501-4938-834A-2881E6C9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BDF3-E86A-4F40-B101-974E5BB3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AE7-54B2-4D5D-B52C-61B51467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681-F228-40FA-B406-2FBA5FC3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D0F4-C4CD-468F-9C40-C90AB4DE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233-E6CC-4F2B-AA41-453F96E8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1F82-7093-4E1F-8EDE-42F4B1CC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1D2-E404-4F84-9FD8-EAC1D0DC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149-3875-427A-846B-BDD9E37C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CF0-9C72-4025-A9B2-25B77261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6aabd"/>
            </a:gs>
            <a:gs pos="100000">
              <a:srgbClr val="1bcde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8B8F-A2E6-4FE5-9B3A-27C3143557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рцель Любовь Николаевна- учитель информатики, матема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обольская средняя школа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станайский район, Кустанайск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: Сложные услови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388620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: Научить составлять программы   используя сложные усло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Развивать умения составлять программы с условным операт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Воспитывать интерес к предмету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ая 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оставлении программ мы можем использовать не только несколько условий для задания ветвлений, но и несколько раз использовать саму конструкцию ветвления, вкладывая их одну в другую, создавая сложные усло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возникает необходимость проверить условие, и в зависимости от результата проверки выполнить ту или иную серию операторов. В  Паскале эта серия операторов объединяется в один составной оператор, который заключается в операторные скоб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. Составить программу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X,Y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2 THEN Y: = X 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3 THEN Y: = 2 ELSE  Y: = -X +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 , 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4932360" y="765000"/>
                <a:ext cx="135900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Х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  <m:r>
                              <m:t xml:space="preserve">2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2. Найти корни квадратного уравн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 A, B, C, D, X1, X2: RE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LN(A, B, 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:= SQR(B) – 4 * A*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&lt;0 THEN WRITELN (‘NET CORNEY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1:= (-B + SQRT (D)/ (2 * A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2:= (-B - SQRT (D)/ (2 * A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LN (‘X1=’,X1,’’:2,’X2=’,X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X,Y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=0  THEN Y: = SQR(X) 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gt;1 THEN Y: = 2*X+4 ELSE  Y: = SQRT(SIN(X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 , Y:1: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5003640" y="260280"/>
                <a:ext cx="20894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Х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</m:e>
                            </m:rad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если</m:t>
                            </m:r>
                            <m:r>
                              <m:t xml:space="preserve">0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X,Y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lt;=3 THEN Y: =12+COS(5*X) 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gt;5 THEN Y: = X+5 ELSE  Y: = (5*X+7)/(3*X-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 , 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4932360" y="260280"/>
                <a:ext cx="316872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 79-83 повто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програм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1547640" y="2720880"/>
                <a:ext cx="15843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8:13:53Z</dcterms:created>
  <dc:creator>User</dc:creator>
  <dc:description/>
  <dc:language>en-US</dc:language>
  <cp:lastModifiedBy>LEGION</cp:lastModifiedBy>
  <dcterms:modified xsi:type="dcterms:W3CDTF">2015-04-01T07:47:13Z</dcterms:modified>
  <cp:revision>12</cp:revision>
  <dc:subject/>
  <dc:title>Тема:Сложные условия. </dc:title>
</cp:coreProperties>
</file>